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5AC-3772-4B89-BCDA-875C9C3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8D3-C88B-4C31-8F34-987DFD2F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3C2-31F5-47E7-A6E4-8DD17BB7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30B-050A-4695-AE1E-AD5980C6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AF7-E99C-4E9D-AF97-07C03AD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A9E-6A15-4B48-9101-DA40A2B0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ED8-C5F6-4E9D-882C-4D8D579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6D9-E7E5-482F-883F-D5856423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A69-8CC8-4510-A3DE-87C2702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A7C-BBC7-48F6-8E15-D1A2923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FAD-3EEE-4371-AD22-766C3E6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72B-1596-4ED1-9F41-56651A9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DA3-6561-405F-9AAA-D7BA39EC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9 Na tvoju 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d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a pocítim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ty ma miluje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dopraj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dobre viem, že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svojho šťasti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z lásky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 za mňa život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chcem byť tvojím nave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Spasiteľ a Krá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tvoj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ôj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vrúcne že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vyplniť ho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uj moje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nikdy ne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vzácny pokoj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eto stále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svoju skrýšu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be len,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cem svoju skrýšu 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 viere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voj pohľad k nebe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odtiaľ prídeš svojich vzi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 k sebe, Pane,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túžim s tebou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meste večn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tvoju lásku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a, zas a 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ba tam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znova, zas a z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často sklame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iech zrak mi zakal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lnka lúče hrejiv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rak čierny zah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sám ma poteší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oc čiernu zaženieš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s blízkosť tvoju pocíti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 tvoju lásku tie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38:30Z</dcterms:modified>
  <cp:revision>22</cp:revision>
  <dc:subject/>
  <dc:title>Je veľký náš Pán, on slávy je Kráľ Nech do všetkých strán  spev vrúcnych znie chvál.</dc:title>
</cp:coreProperties>
</file>